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BA8C7-6879-454D-A210-E2F0863CA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01181-AD54-41FD-B445-696A9AB91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2903C-5529-4C56-B4E8-B6C882FEB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24E8D-907D-4FD9-B839-684E92D07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8412B-EBA9-430F-8E1F-134E1197B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7E050-CC8C-494D-AFD8-80F656E39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658DF-B403-4EDF-B8D3-8450821DD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88E0D-41CD-4ADA-8D89-7E8274B49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3BDB1-C338-4AA2-9870-4E283ED5D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F054E-6A53-4BA9-BE77-E034CAAB7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8758D-76CB-4063-AFF2-DBFB07201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A4614-EFFB-40F4-9013-7E0CF5D3D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AEFEF-F4D8-4447-A773-4E955FE98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4FD0E-B7FE-4B0A-90AF-469FF2A23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0E84C-30DE-46AC-8B2D-ADB7DF80B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C8939-1D46-47D3-86D6-6F1F7C270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6937C-6705-43C2-A90E-C7CA42D30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57B50-A31E-43FD-B9EE-66F4E19E9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83C43-08C3-4F0D-B3A2-72948BF6E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13F89-9FF6-4170-BF7E-0FB30FEEA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654BE-ACA6-4265-8CCC-5B1DCF39C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2075C-7D3F-4533-AB18-5EB30680B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96838-00BC-4363-BDF9-A1CD2F86D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B2D03-90E1-478A-BCE0-DF90ACB9C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60E63-5DFA-4010-A035-3FF490B1F3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2BECA-1B8E-4AAD-9BAA-0E14F93AC28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8</a:t>
            </a: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장 교원과 교원단체 </a:t>
            </a:r>
            <a:endParaRPr b="1" lang="en-US" sz="48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복지와 교육의 본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밀그램의 연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96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 예일대학교 심리학자 조교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tanley Milgr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나치의 학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기충격 실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5 : 35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필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적 동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집단의 이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속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상부상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신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익보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지 향상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 이상의 실현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특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은 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공성과 공익성을 띠는 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합적 성격을 띤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임의단체가 아닌 법정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역할과 기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속감과 안정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을 대변하고 권익을 보호 증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적 자질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 경제적 지위 신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정책의 형성과 결정 과정에 참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다양한 복지와 혜택 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년 복지와 사회의 건전한 발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한국의 교원단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국교원단체총연합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국교직원노동조합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교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총연합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단 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논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11" name="Picture 3" descr="MCj04042630000[1]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staff</cp:lastModifiedBy>
  <dcterms:modified xsi:type="dcterms:W3CDTF">2008-12-12T05:54:22Z</dcterms:modified>
  <cp:revision>11</cp:revision>
  <dc:subject/>
  <dc:title>제 6장 교사교육 </dc:title>
</cp:coreProperties>
</file>